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1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4FCF-5240-4C1F-BE1B-7F4315E4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AC76-0396-42A2-AC81-426E7527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2FE2-7622-4610-99E9-53D082970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551A-2974-45AD-968E-4936F4C03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A61E-8758-47D7-89E8-2C762E672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84C6-AF8D-419E-BC30-E4464BE5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08A1-8DD9-4CBD-998C-C8C18DB8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064D-6ED6-47ED-96A5-2BB3BA76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A746-FCAB-48B5-9E99-8EB8BC1A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CC3A-7013-4064-978E-B58ABC32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F2BE-C92C-48EB-BB81-F04488AC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0CFD-02D2-4775-B85A-53703A2F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B029-4E14-4E7D-8335-EFF38D03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28D9-490B-4A7E-ACC7-F0E54FEA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1CF5-5085-4ABE-8B73-EAEC0AD8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7227-2530-43B7-915A-636589D57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0363-743B-46A8-B329-3379FF6B5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4EA8-9F3A-436B-9DA0-EFAE43EF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5A45-A843-4CDB-BB85-9FA529FC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03BC-3082-4AA0-BA5B-416707EC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41E7-3F31-4373-B063-B9180095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F78B-842F-4A91-83D0-9B9DCF60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1845-3DF2-4316-AF43-8DA080CD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BCDE-A75E-4D4F-9411-21DD82CF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50760" y="-4680"/>
                <a:ext cx="990720" cy="6837840"/>
              </a:xfrm>
              <a:prstGeom prst="pie">
                <a:avLst/>
              </a:pr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50760" y="1692720"/>
                <a:ext cx="990720" cy="501120"/>
              </a:xfrm>
              <a:prstGeom prst="pie">
                <a:avLst/>
              </a:pr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50760" y="1287000"/>
                <a:ext cx="990720" cy="502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50760" y="149040"/>
                <a:ext cx="990720" cy="303480"/>
              </a:xfrm>
              <a:prstGeom prst="pie">
                <a:avLst/>
              </a:pr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50760" y="984600"/>
                <a:ext cx="990720" cy="349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50760" y="680040"/>
                <a:ext cx="990720" cy="430560"/>
              </a:xfrm>
              <a:prstGeom prst="pie">
                <a:avLst/>
              </a:prstGeom>
              <a:solidFill>
                <a:srgbClr val="00c2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50400" y="372240"/>
                <a:ext cx="1003320" cy="3747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2840" y="3939480"/>
                <a:ext cx="990720" cy="500760"/>
              </a:xfrm>
              <a:prstGeom prst="pie">
                <a:avLst/>
              </a:pr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42840" y="3533760"/>
                <a:ext cx="990720" cy="50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42840" y="2395080"/>
                <a:ext cx="990720" cy="303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42840" y="3230280"/>
                <a:ext cx="990720" cy="349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42840" y="2926440"/>
                <a:ext cx="990720" cy="429480"/>
              </a:xfrm>
              <a:prstGeom prst="pie">
                <a:avLst/>
              </a:prstGeom>
              <a:solidFill>
                <a:srgbClr val="00c2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42480" y="2617920"/>
                <a:ext cx="1003320" cy="375840"/>
              </a:xfrm>
              <a:prstGeom prst="pie">
                <a:avLst/>
              </a:pr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50760" y="4970520"/>
                <a:ext cx="990720" cy="500760"/>
              </a:xfrm>
              <a:prstGeom prst="pie">
                <a:avLst/>
              </a:pr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0760" y="4564440"/>
                <a:ext cx="990720" cy="5022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2840" y="5672520"/>
                <a:ext cx="99072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2840" y="6204600"/>
                <a:ext cx="990720" cy="429480"/>
              </a:xfrm>
              <a:prstGeom prst="pie">
                <a:avLst/>
              </a:prstGeom>
              <a:solidFill>
                <a:srgbClr val="00c2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2120" y="5895000"/>
                <a:ext cx="1003320" cy="3762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http://www.lyc-henner-altkirch.ac-strasbourg.fr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F9AF-54BC-4893-9EF9-8D89BD7E6A3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prstGeom prst="pie">
                <a:avLst/>
              </a:pr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prstGeom prst="pie">
                <a:avLst/>
              </a:pr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prstGeom prst="pie">
                <a:avLst/>
              </a:pr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prstGeom prst="pie">
                <a:avLst/>
              </a:prstGeom>
              <a:solidFill>
                <a:srgbClr val="00c2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prstGeom prst="pie">
                <a:avLst/>
              </a:pr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prstGeom prst="pie">
                <a:avLst/>
              </a:prstGeom>
              <a:solidFill>
                <a:srgbClr val="00c2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prstGeom prst="pie">
                <a:avLst/>
              </a:pr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prstGeom prst="pie">
                <a:avLst/>
              </a:pr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prstGeom prst="pie">
                <a:avLst/>
              </a:prstGeom>
              <a:solidFill>
                <a:srgbClr val="00c2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http://www.lyc-henner-altkirch.ac-strasbourg.fr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C015-BF41-42B0-B293-3529A3A639D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Espace réservé du numéro de diapositive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0319-2657-4A19-8965-7C3B4DE57DB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3366"/>
                </a:solidFill>
                <a:latin typeface="Arial"/>
              </a:rPr>
              <a:t>LYCEE JEAN-JACQUES</a:t>
            </a:r>
            <a:br>
              <a:rPr sz="4000"/>
            </a:br>
            <a:r>
              <a:rPr b="1" lang="fr-FR" sz="4000" spc="-1" strike="noStrike">
                <a:solidFill>
                  <a:srgbClr val="003366"/>
                </a:solidFill>
                <a:latin typeface="Arial"/>
              </a:rPr>
              <a:t>HENNER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90360" y="54100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20, route de Hirtzbach 68132 ALTKIRCH Ce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él: 03.89.07.57.07   Fax: 03.89.07.57.29</a:t>
            </a:r>
            <a:br>
              <a:rPr sz="24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ttp://www.lyc-henner-altkirch.ac-strasbourg.fr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Vue aérienne JJH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600200" y="1447920"/>
            <a:ext cx="6781680" cy="3835440"/>
          </a:xfrm>
          <a:prstGeom prst="rect">
            <a:avLst/>
          </a:prstGeom>
          <a:ln w="7632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32" name="Text Box 5"/>
          <p:cNvSpPr/>
          <p:nvPr/>
        </p:nvSpPr>
        <p:spPr>
          <a:xfrm>
            <a:off x="1573200" y="5073480"/>
            <a:ext cx="23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hoto: Jean-Pascal BA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Espace réservé du numéro de diapositive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71B6-021E-47DA-8E21-EA0738BC41A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2711520" y="228600"/>
            <a:ext cx="6080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33"/>
                </a:solidFill>
                <a:latin typeface="Arial"/>
              </a:rPr>
              <a:t>ACCOMPAGNEMENT PERSONNAL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3" descr="logo_jjhenner"/>
          <p:cNvPicPr/>
          <p:nvPr/>
        </p:nvPicPr>
        <p:blipFill>
          <a:blip r:embed="rId1"/>
          <a:stretch/>
        </p:blipFill>
        <p:spPr>
          <a:xfrm>
            <a:off x="1219320" y="304920"/>
            <a:ext cx="1523880" cy="13604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4"/>
          <p:cNvSpPr/>
          <p:nvPr/>
        </p:nvSpPr>
        <p:spPr>
          <a:xfrm>
            <a:off x="1111320" y="1955880"/>
            <a:ext cx="7619760" cy="44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ux heures d’accompagnement personnalisé, globalisées, en groupes ou en classe entière, assurées par les enseignants de la classe, le COP, la CPE, la documentaliste, des intervenants extérieur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Quatre pôles peuvent être déclinés en atelie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rientation (forum, ateliers, conférence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ide au travail, remédiation, souti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éthodologie, soutien disciplinaire, prise de parole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uverture sur l’extérieur (arts, culture scientifique, entreprise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lèves et enseignants peuvent travailler sur des projets pluridisciplinai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332000" y="3954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6"/>
          <p:cNvSpPr/>
          <p:nvPr/>
        </p:nvSpPr>
        <p:spPr>
          <a:xfrm rot="16200000">
            <a:off x="-3297240" y="3299040"/>
            <a:ext cx="6856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Lycée J.-J. Henner  20 rue de Hirtzbach  68130 ALTKIRCH  Tél: 03.89.07.57.0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u numéro de diapositive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D160-7763-4FCD-BA14-955B3995E83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328920" y="3522600"/>
            <a:ext cx="4640400" cy="758880"/>
          </a:xfrm>
          <a:prstGeom prst="rect">
            <a:avLst/>
          </a:prstGeom>
          <a:solidFill>
            <a:srgbClr val="73df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2nde de dé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logo_jjhenner"/>
          <p:cNvPicPr/>
          <p:nvPr/>
        </p:nvPicPr>
        <p:blipFill>
          <a:blip r:embed="rId1"/>
          <a:stretch/>
        </p:blipFill>
        <p:spPr>
          <a:xfrm>
            <a:off x="1219320" y="304920"/>
            <a:ext cx="1523880" cy="13604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2658960" y="189000"/>
            <a:ext cx="51055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33"/>
                </a:solidFill>
                <a:latin typeface="Arial"/>
              </a:rPr>
              <a:t>ENSEIGN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33"/>
                </a:solidFill>
                <a:latin typeface="Arial"/>
              </a:rPr>
              <a:t>GENERAL &amp; TECHNOLOG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1"/>
          <p:cNvSpPr/>
          <p:nvPr/>
        </p:nvSpPr>
        <p:spPr>
          <a:xfrm rot="16200000">
            <a:off x="-3297240" y="3299040"/>
            <a:ext cx="6856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Lycée J.-J. Henner  20 rue de Hirtzbach  68130 ALTKIRCH  Tél: 03.89.07.57.0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2" descr="Bac ES 0001"/>
          <p:cNvPicPr/>
          <p:nvPr/>
        </p:nvPicPr>
        <p:blipFill>
          <a:blip r:embed="rId2"/>
          <a:stretch/>
        </p:blipFill>
        <p:spPr>
          <a:xfrm>
            <a:off x="7342200" y="4532400"/>
            <a:ext cx="1370160" cy="2050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Bac L 0003"/>
          <p:cNvPicPr/>
          <p:nvPr/>
        </p:nvPicPr>
        <p:blipFill>
          <a:blip r:embed="rId3"/>
          <a:stretch/>
        </p:blipFill>
        <p:spPr>
          <a:xfrm>
            <a:off x="1327320" y="2070000"/>
            <a:ext cx="1609560" cy="2408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Bac S SVT 0004"/>
          <p:cNvPicPr/>
          <p:nvPr/>
        </p:nvPicPr>
        <p:blipFill>
          <a:blip r:embed="rId4"/>
          <a:stretch/>
        </p:blipFill>
        <p:spPr>
          <a:xfrm>
            <a:off x="4214880" y="2000160"/>
            <a:ext cx="1950840" cy="1190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Bac S SVT 0009"/>
          <p:cNvPicPr/>
          <p:nvPr/>
        </p:nvPicPr>
        <p:blipFill>
          <a:blip r:embed="rId5"/>
          <a:stretch/>
        </p:blipFill>
        <p:spPr>
          <a:xfrm>
            <a:off x="2995560" y="4722840"/>
            <a:ext cx="1408320" cy="1814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BTS CGO et Bac STG 0005"/>
          <p:cNvPicPr/>
          <p:nvPr/>
        </p:nvPicPr>
        <p:blipFill>
          <a:blip r:embed="rId6"/>
          <a:stretch/>
        </p:blipFill>
        <p:spPr>
          <a:xfrm>
            <a:off x="6707160" y="1833480"/>
            <a:ext cx="1951200" cy="1305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0" descr="Bac STI GET 0009"/>
          <p:cNvPicPr/>
          <p:nvPr/>
        </p:nvPicPr>
        <p:blipFill>
          <a:blip r:embed="rId7"/>
          <a:srcRect l="22730" t="2627" r="2522" b="728"/>
          <a:stretch/>
        </p:blipFill>
        <p:spPr>
          <a:xfrm>
            <a:off x="5237280" y="4911840"/>
            <a:ext cx="1546200" cy="1336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1" descr="Bac STI GET 0002"/>
          <p:cNvPicPr/>
          <p:nvPr/>
        </p:nvPicPr>
        <p:blipFill>
          <a:blip r:embed="rId8"/>
          <a:stretch/>
        </p:blipFill>
        <p:spPr>
          <a:xfrm>
            <a:off x="1317600" y="4738680"/>
            <a:ext cx="120168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u numéro de diapositive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4317-43D4-4B91-8814-85CE79D7487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609480" y="6094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012680" y="396720"/>
            <a:ext cx="7597800" cy="164880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Verdana"/>
              </a:rPr>
              <a:t>24h d’enseignements obligatoires</a:t>
            </a:r>
            <a:r>
              <a:rPr b="0" lang="fr-FR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Verdana"/>
              </a:rPr>
              <a:t>dans neuf matièr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Verdana"/>
              </a:rPr>
              <a:t>+ </a:t>
            </a:r>
            <a:r>
              <a:rPr b="1" lang="fr-FR" sz="2000" spc="-1" strike="noStrike">
                <a:solidFill>
                  <a:srgbClr val="ff0000"/>
                </a:solidFill>
                <a:latin typeface="Verdana"/>
              </a:rPr>
              <a:t>2h</a:t>
            </a:r>
            <a:r>
              <a:rPr b="0" lang="fr-FR" sz="2000" spc="-1" strike="noStrike">
                <a:solidFill>
                  <a:srgbClr val="ff0000"/>
                </a:solidFill>
                <a:latin typeface="Verdana"/>
              </a:rPr>
              <a:t> d’</a:t>
            </a:r>
            <a:r>
              <a:rPr b="1" lang="fr-FR" sz="2000" spc="-1" strike="noStrike">
                <a:solidFill>
                  <a:srgbClr val="ff0000"/>
                </a:solidFill>
                <a:latin typeface="Verdana"/>
              </a:rPr>
              <a:t>accompagnement personnalis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Verdana"/>
              </a:rPr>
              <a:t>soit </a:t>
            </a:r>
            <a:r>
              <a:rPr b="1" lang="fr-FR" sz="2000" spc="-1" strike="noStrike">
                <a:solidFill>
                  <a:srgbClr val="ff0000"/>
                </a:solidFill>
                <a:latin typeface="Verdana"/>
              </a:rPr>
              <a:t>26 heures hebdomadaires</a:t>
            </a:r>
            <a:r>
              <a:rPr b="0" lang="fr-FR" sz="20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Verdana"/>
              </a:rPr>
              <a:t>On parle souvent de </a:t>
            </a:r>
            <a:r>
              <a:rPr b="1" lang="fr-FR" sz="2000" spc="-1" strike="noStrike">
                <a:solidFill>
                  <a:srgbClr val="ff0000"/>
                </a:solidFill>
                <a:latin typeface="Verdana"/>
              </a:rPr>
              <a:t>tronc commun</a:t>
            </a:r>
            <a:r>
              <a:rPr b="0" lang="fr-FR" sz="22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947880" y="4332240"/>
            <a:ext cx="7662600" cy="7038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ventuel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une </a:t>
            </a:r>
            <a:r>
              <a:rPr b="0" lang="fr-FR" sz="2000" spc="-1" strike="noStrike">
                <a:solidFill>
                  <a:srgbClr val="ff0000"/>
                </a:solidFill>
                <a:latin typeface="Verdana"/>
              </a:rPr>
              <a:t>option facul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1012680" y="2548080"/>
            <a:ext cx="7631280" cy="100872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Verdana"/>
              </a:rPr>
              <a:t>2 enseignements d’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Verdana"/>
              </a:rPr>
              <a:t>à choisir parmi 7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Verdana"/>
              </a:rPr>
              <a:t>soit 2 x 1,5h: </a:t>
            </a:r>
            <a:r>
              <a:rPr b="1" lang="fr-FR" sz="2000" spc="-1" strike="noStrike">
                <a:solidFill>
                  <a:srgbClr val="ff0000"/>
                </a:solidFill>
                <a:latin typeface="Verdana"/>
              </a:rPr>
              <a:t>3 heures hebdomad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4478400" y="20480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 rot="16200000">
            <a:off x="-3297240" y="3299040"/>
            <a:ext cx="6856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Lycée J.-J. Henner  20 rue de Hirtzbach  68130 ALTKIRCH  Tél: 03.89.07.57.0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1065240" y="5767560"/>
            <a:ext cx="7518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0"/>
          <p:cNvSpPr/>
          <p:nvPr/>
        </p:nvSpPr>
        <p:spPr>
          <a:xfrm flipV="1" rot="10800000">
            <a:off x="961560" y="5313960"/>
            <a:ext cx="7666200" cy="7038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ventuel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Verdana"/>
              </a:rPr>
              <a:t>Remise à niveau en français - mathémat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1"/>
          <p:cNvSpPr/>
          <p:nvPr/>
        </p:nvSpPr>
        <p:spPr>
          <a:xfrm flipV="1">
            <a:off x="4460760" y="3587760"/>
            <a:ext cx="88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Espace réservé du numéro de diapositive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D694-CA85-4E5F-952B-0AB9D884358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3" descr="logo_jjhenner"/>
          <p:cNvPicPr/>
          <p:nvPr/>
        </p:nvPicPr>
        <p:blipFill>
          <a:blip r:embed="rId1"/>
          <a:stretch/>
        </p:blipFill>
        <p:spPr>
          <a:xfrm>
            <a:off x="907920" y="0"/>
            <a:ext cx="1133640" cy="10112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 rot="16200000">
            <a:off x="-3297240" y="3299040"/>
            <a:ext cx="6856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Lycée J.-J. Henner  20 rue de Hirtzbach  68130 ALTKIRCH  Tél: 03.89.07.57.0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724200" y="396720"/>
            <a:ext cx="40100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33"/>
                </a:solidFill>
                <a:latin typeface="Times New Roman"/>
              </a:rPr>
              <a:t>  </a:t>
            </a:r>
            <a:r>
              <a:rPr b="1" lang="fr-FR" sz="3200" spc="-1" strike="noStrike">
                <a:solidFill>
                  <a:srgbClr val="990033"/>
                </a:solidFill>
                <a:latin typeface="Arial"/>
                <a:ea typeface="Arial"/>
              </a:rPr>
              <a:t>TRONC COMM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Object 8"/>
          <p:cNvGraphicFramePr/>
          <p:nvPr/>
        </p:nvGraphicFramePr>
        <p:xfrm>
          <a:off x="2266920" y="1386000"/>
          <a:ext cx="6210360" cy="4767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0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6920" y="1386000"/>
                    <a:ext cx="6210360" cy="47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numéro de diapositive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1572-7C30-45AF-8FEA-7F598AD9AAA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987480" y="1790640"/>
            <a:ext cx="78487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classe de seconde il faudra chois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  enseignements d’exploration ( 2 x 1,50h) parm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-285840">
              <a:lnSpc>
                <a:spcPct val="80000"/>
              </a:lnSpc>
              <a:spcBef>
                <a:spcPts val="349"/>
              </a:spcBef>
              <a:buClr>
                <a:srgbClr val="990033"/>
              </a:buClr>
              <a:buFont typeface="Wingdings" charset="2"/>
              <a:buChar char=""/>
              <a:tabLst>
                <a:tab algn="l" pos="1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ciences économiques et sociales – 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-285840">
              <a:lnSpc>
                <a:spcPct val="80000"/>
              </a:lnSpc>
              <a:spcBef>
                <a:spcPts val="349"/>
              </a:spcBef>
              <a:buClr>
                <a:srgbClr val="990033"/>
              </a:buClr>
              <a:buFont typeface="Wingdings" charset="2"/>
              <a:buChar char=""/>
              <a:tabLst>
                <a:tab algn="l" pos="1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rincipes fondamentaux de l’économie ges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-285840">
              <a:lnSpc>
                <a:spcPct val="80000"/>
              </a:lnSpc>
              <a:spcBef>
                <a:spcPts val="349"/>
              </a:spcBef>
              <a:buClr>
                <a:srgbClr val="990033"/>
              </a:buClr>
              <a:buFont typeface="Wingdings" charset="2"/>
              <a:buChar char=""/>
              <a:tabLst>
                <a:tab algn="l" pos="1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I: Sciences de l’ingénie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-285840">
              <a:lnSpc>
                <a:spcPct val="80000"/>
              </a:lnSpc>
              <a:spcBef>
                <a:spcPts val="349"/>
              </a:spcBef>
              <a:buClr>
                <a:srgbClr val="990033"/>
              </a:buClr>
              <a:buFont typeface="Wingdings" charset="2"/>
              <a:buChar char=""/>
              <a:tabLst>
                <a:tab algn="l" pos="1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PS: méthodes et pratiques scientifiq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-285840">
              <a:lnSpc>
                <a:spcPct val="80000"/>
              </a:lnSpc>
              <a:spcBef>
                <a:spcPts val="349"/>
              </a:spcBef>
              <a:buClr>
                <a:srgbClr val="990033"/>
              </a:buClr>
              <a:buFont typeface="Wingdings" charset="2"/>
              <a:buChar char=""/>
              <a:tabLst>
                <a:tab algn="l" pos="1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L&amp;So: littérature et socié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-285840">
              <a:lnSpc>
                <a:spcPct val="80000"/>
              </a:lnSpc>
              <a:spcBef>
                <a:spcPts val="349"/>
              </a:spcBef>
              <a:buClr>
                <a:srgbClr val="990033"/>
              </a:buClr>
              <a:buFont typeface="Wingdings" charset="2"/>
              <a:buChar char=""/>
              <a:tabLst>
                <a:tab algn="l" pos="1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ciences économiques et sociales – 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-285840">
              <a:lnSpc>
                <a:spcPct val="80000"/>
              </a:lnSpc>
              <a:spcBef>
                <a:spcPts val="349"/>
              </a:spcBef>
              <a:buClr>
                <a:srgbClr val="990033"/>
              </a:buClr>
              <a:buFont typeface="Wingdings" charset="2"/>
              <a:buChar char=""/>
              <a:tabLst>
                <a:tab algn="l" pos="1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rincipes fondamentaux de l’économie ges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-285840">
              <a:lnSpc>
                <a:spcPct val="80000"/>
              </a:lnSpc>
              <a:spcBef>
                <a:spcPts val="349"/>
              </a:spcBef>
              <a:buClr>
                <a:srgbClr val="990033"/>
              </a:buClr>
              <a:buFont typeface="Wingdings" charset="2"/>
              <a:buChar char=""/>
              <a:tabLst>
                <a:tab algn="l" pos="1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LV3: Espagn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-285840">
              <a:lnSpc>
                <a:spcPct val="80000"/>
              </a:lnSpc>
              <a:spcBef>
                <a:spcPts val="349"/>
              </a:spcBef>
              <a:buClr>
                <a:srgbClr val="990033"/>
              </a:buClr>
              <a:buFont typeface="Wingdings" charset="2"/>
              <a:buChar char=""/>
              <a:tabLst>
                <a:tab algn="l" pos="1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Langue Ancienne: Latin (débutan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i un élève choisit Sciences de l’ingénieur, il peut, en plus, choisir CIT, création et innovation technologique. Il aura donc exceptionnellement 3 enseignements d’expl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35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Aucun enseignement d’exploration ne détermine le type de Premièr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il s’agit bien de découvrir et d’explorer de nouvelles matièr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Les enseignements d’exploration disparaissent en Premiè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logo_jjhenner"/>
          <p:cNvPicPr/>
          <p:nvPr/>
        </p:nvPicPr>
        <p:blipFill>
          <a:blip r:embed="rId1"/>
          <a:stretch/>
        </p:blipFill>
        <p:spPr>
          <a:xfrm>
            <a:off x="1219320" y="304920"/>
            <a:ext cx="1523880" cy="13604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3429000" y="533520"/>
            <a:ext cx="51055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33"/>
                </a:solidFill>
                <a:latin typeface="Arial"/>
              </a:rPr>
              <a:t>ENSEIGNEMENTS d’EXPL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0"/>
          <p:cNvSpPr/>
          <p:nvPr/>
        </p:nvSpPr>
        <p:spPr>
          <a:xfrm rot="16200000">
            <a:off x="-3297240" y="3299040"/>
            <a:ext cx="6856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Lycée J.-J. Henner  20 rue de Hirtzbach  68130 ALTKIRCH  Tél: 03.89.07.57.0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u numéro de diapositive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9931-3A99-40F2-BE07-59AD1AA6DC1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449360" y="1738440"/>
            <a:ext cx="6896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0920" indent="0">
              <a:spcBef>
                <a:spcPts val="249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30920" indent="0">
              <a:spcBef>
                <a:spcPts val="300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appel important: </a:t>
            </a:r>
            <a:r>
              <a:rPr b="1" lang="fr-FR" sz="1200" spc="-1" strike="noStrike">
                <a:solidFill>
                  <a:srgbClr val="ff0000"/>
                </a:solidFill>
                <a:latin typeface="Arial"/>
              </a:rPr>
              <a:t>aucun enseignement d’exploration ne détermine le type de Première: il s’agit bien de découvrir et d’explorer de  nouvelles matières. Les enseignements d’exploration disparaissent en Premiè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0920" indent="0">
              <a:spcBef>
                <a:spcPts val="300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0920" indent="0">
              <a:spcBef>
                <a:spcPts val="300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ombinaisons possib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0920" indent="0">
              <a:spcBef>
                <a:spcPts val="300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0920" indent="0">
              <a:spcBef>
                <a:spcPts val="300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Sciences économiques et sociales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 :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Économie – gestio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0920" indent="0">
              <a:spcBef>
                <a:spcPts val="300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 littérature et société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 littérature et société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0920" indent="0">
              <a:spcBef>
                <a:spcPts val="300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 économie - gestio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 sciences économiques et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0920" indent="0">
              <a:spcBef>
                <a:spcPts val="300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 LV3 espagnol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- LV3 espag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0920" indent="0">
              <a:spcBef>
                <a:spcPts val="300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 latin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- latin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0920" indent="0">
              <a:spcBef>
                <a:spcPts val="300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 méthode et pratiques scientifiques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- méthode et pratiques scientif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0920" indent="0">
              <a:spcBef>
                <a:spcPts val="300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 sciences de l’ingénieur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- sciences de l’ingéni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0920" indent="0">
              <a:spcBef>
                <a:spcPts val="300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 création et innovation techniques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- création et innovation techn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0920" indent="0">
              <a:spcBef>
                <a:spcPts val="300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0920" indent="0">
              <a:spcBef>
                <a:spcPts val="300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es enseignements d’exploration et ces combinaisons sont proposées, sous réserve d’élèves en nombre suffisant à les avoir choisis. D’autre part, toutes les combinaisons ne sont pas possibles avec la 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V2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spagnol (se renseigner au moment de l’inscriptio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0920" indent="0">
              <a:spcBef>
                <a:spcPts val="300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0920" indent="0">
              <a:spcBef>
                <a:spcPts val="300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0920" indent="0">
              <a:spcBef>
                <a:spcPts val="249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30920" indent="0">
              <a:spcBef>
                <a:spcPts val="249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logo_jjhenner"/>
          <p:cNvPicPr/>
          <p:nvPr/>
        </p:nvPicPr>
        <p:blipFill>
          <a:blip r:embed="rId1"/>
          <a:stretch/>
        </p:blipFill>
        <p:spPr>
          <a:xfrm>
            <a:off x="1219320" y="304920"/>
            <a:ext cx="1523880" cy="13604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3429000" y="533520"/>
            <a:ext cx="510552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33"/>
                </a:solidFill>
                <a:latin typeface="Arial"/>
              </a:rPr>
              <a:t>ENSEIGNEMENTS d’EXPL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 rot="16200000">
            <a:off x="-3297240" y="3299040"/>
            <a:ext cx="6856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Lycée J.-J. Henner  20 rue de Hirtzbach  68130 ALTKIRCH  Tél: 03.89.07.57.0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numéro de diapositive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46EF-0C6E-483D-86DD-75AE8498195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026"/>
          <p:cNvSpPr/>
          <p:nvPr/>
        </p:nvSpPr>
        <p:spPr>
          <a:xfrm>
            <a:off x="2711520" y="228600"/>
            <a:ext cx="6080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33"/>
                </a:solidFill>
                <a:latin typeface="Arial"/>
              </a:rPr>
              <a:t>OP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33"/>
                </a:solidFill>
                <a:latin typeface="Arial"/>
              </a:rPr>
              <a:t>FACULT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1027" descr="logo_jjhenner"/>
          <p:cNvPicPr/>
          <p:nvPr/>
        </p:nvPicPr>
        <p:blipFill>
          <a:blip r:embed="rId1"/>
          <a:stretch/>
        </p:blipFill>
        <p:spPr>
          <a:xfrm>
            <a:off x="1219320" y="304920"/>
            <a:ext cx="1523880" cy="13604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088"/>
          <p:cNvSpPr/>
          <p:nvPr/>
        </p:nvSpPr>
        <p:spPr>
          <a:xfrm>
            <a:off x="1111320" y="1955880"/>
            <a:ext cx="7619760" cy="44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n élève peut encore choisir une et une seule de ces options facultatives sous réserves d’effectifs suffisants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tin continuant – 3h hebdomadai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rts plastiques – 2h hebdomad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spagnol LV3 – 3h hebdomad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ngue régionale d’Alsace – 1 ou 2h hebdomad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ection sportive handball: 3h +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traînements/clubs + compéti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IBAC : 6h d’allemand - 1h/renfort en anglais – 4h d’HG en al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ection européenne anglais – 2h hebdo. Deux color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125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NL – Histoire/géographie – 2h d’HG en angl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125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NL – Sciences physiques et/ou SVT – 2h de TP en angl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089"/>
          <p:cNvSpPr/>
          <p:nvPr/>
        </p:nvSpPr>
        <p:spPr>
          <a:xfrm>
            <a:off x="1332000" y="3954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093"/>
          <p:cNvSpPr/>
          <p:nvPr/>
        </p:nvSpPr>
        <p:spPr>
          <a:xfrm rot="16200000">
            <a:off x="-3297240" y="3299040"/>
            <a:ext cx="6856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Lycée J.-J. Henner  20 rue de Hirtzbach  68130 ALTKIRCH  Tél: 03.89.07.57.0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Espace réservé du numéro de diapositive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4AAE-FE2B-4030-85D6-ABB570B3FB0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2711520" y="228600"/>
            <a:ext cx="6080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33"/>
                </a:solidFill>
                <a:latin typeface="Arial"/>
                <a:ea typeface="Arial"/>
              </a:rPr>
              <a:t>OP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33"/>
                </a:solidFill>
                <a:latin typeface="Arial"/>
                <a:ea typeface="Arial"/>
              </a:rPr>
              <a:t>FACULT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3" descr="logo_jjhenner"/>
          <p:cNvPicPr/>
          <p:nvPr/>
        </p:nvPicPr>
        <p:blipFill>
          <a:blip r:embed="rId1"/>
          <a:stretch/>
        </p:blipFill>
        <p:spPr>
          <a:xfrm>
            <a:off x="1219320" y="304920"/>
            <a:ext cx="1523880" cy="13604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4"/>
          <p:cNvSpPr/>
          <p:nvPr/>
        </p:nvSpPr>
        <p:spPr>
          <a:xfrm>
            <a:off x="1111320" y="1371600"/>
            <a:ext cx="7619760" cy="53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BIBAC: Préparation au bac général et à l’Abitu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6h d’allemand, de langue, culture et civilisation– au lieu des 3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4h d’anglais, au lieu des 3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4h d’HG en allemand au lieu des 4h d’HG-ECJS en franç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oit 10h de langues vivantes, au lieu des 6h réglement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élève poursuit ces enseignements en classe de 1ère L, ES ou S. Il passe les mêmes épreuves du bac que ses camarades de filière, sauf en allemand et en histoire-géographie. A l’issue de ces études secondaires, il peut donc avoir un bac général français, l’Abitur et une certification en allemand – minimum B1. Nous le préparons aussi au First certificate of Cambrid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ette option représente donc le poids de deux options facultatives et ne peut être combinée avec d’autres options facultatives. Abibac ne peut être combiné qu’avec SES, SI ou MPS. Les 3 bacs (L-ES-S) sont donc possi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1332000" y="3954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6"/>
          <p:cNvSpPr/>
          <p:nvPr/>
        </p:nvSpPr>
        <p:spPr>
          <a:xfrm rot="16200000">
            <a:off x="-3297240" y="3299040"/>
            <a:ext cx="6856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Lycée J.-J. Henner  20 rue de Hirtzbach  68130 ALTKIRCH  Tél: 03.89.07.57.0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Espace réservé du numéro de diapositive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1D6B-2D8C-4C63-97CE-C98D418493A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2711520" y="228600"/>
            <a:ext cx="6080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33"/>
                </a:solidFill>
                <a:latin typeface="Arial"/>
              </a:rPr>
              <a:t>ENSEIGN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33"/>
                </a:solidFill>
                <a:latin typeface="Arial"/>
              </a:rPr>
              <a:t>FACULTATI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3" descr="logo_jjhenner"/>
          <p:cNvPicPr/>
          <p:nvPr/>
        </p:nvPicPr>
        <p:blipFill>
          <a:blip r:embed="rId1"/>
          <a:stretch/>
        </p:blipFill>
        <p:spPr>
          <a:xfrm>
            <a:off x="1219320" y="304920"/>
            <a:ext cx="1523880" cy="136044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"/>
          <p:cNvSpPr/>
          <p:nvPr/>
        </p:nvSpPr>
        <p:spPr>
          <a:xfrm>
            <a:off x="1111320" y="1955880"/>
            <a:ext cx="7619760" cy="43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ECTION EUROPEENNE ANGLA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ux color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125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G : 2h en angl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125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PC – SVT:  2h de TP en angl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Examens: l’élève passe une épreuve spécifique en Terminale, comme toute option facultative. Il peut aussi se préparer au First Certificate of Cambridge en Premi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Cumul d’options: la section européenne étant intégrée dans le tronc commun, l’élève peut exceptionnellement choisir une autre option facultative parmi: latin (continuant), arts plastiques, LCR, LV3 espagn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332000" y="3954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 rot="16200000">
            <a:off x="-3297240" y="3299040"/>
            <a:ext cx="6856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Lycée J.-J. Henner  20 rue de Hirtzbach  68130 ALTKIRCH  Tél: 03.89.07.57.0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2T14:49:34Z</dcterms:created>
  <dc:creator>A.MULLER</dc:creator>
  <dc:description/>
  <dc:language>en-US</dc:language>
  <cp:lastModifiedBy>Gérard BOHLER</cp:lastModifiedBy>
  <dcterms:modified xsi:type="dcterms:W3CDTF">2010-03-03T16:12:21Z</dcterms:modified>
  <cp:revision>252</cp:revision>
  <dc:subject/>
  <dc:title>LYCEE JEAN-JACQUES HENNER</dc:title>
</cp:coreProperties>
</file>